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51985"/>
        <c:axId val="57415277"/>
      </c:barChart>
      <c:catAx>
        <c:axId val="356519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15277"/>
        <c:crosses val="autoZero"/>
        <c:auto val="1"/>
        <c:lblAlgn val="ctr"/>
        <c:lblOffset val="100"/>
        <c:noMultiLvlLbl val="0"/>
      </c:catAx>
      <c:valAx>
        <c:axId val="57415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519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818-C23D-463E-ADFA-BCCF7D1B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844-7695-4E57-8414-953EC7D2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C8A-7F67-493E-BB84-5915E76A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7E3-38A3-4C6B-B1AA-FDA15350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5F7-D776-462E-B8B3-AEBAA1FC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77C-E8B6-4A4E-834F-8E84FFE9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5060-8A77-4085-B6D8-CEF2BA5E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CEB-E601-49C0-9443-082DA5F4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51C-019C-4F1D-8053-E4F5BA07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38A-06FC-4337-9A52-58D34A2B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929-2FE9-4307-9663-EA139271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C84-2CCA-4564-AFDD-16A1753B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2C459-46D6-4C80-9268-0832F88D61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