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207736"/>
        <c:axId val="11459573"/>
      </c:barChart>
      <c:catAx>
        <c:axId val="682077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59573"/>
        <c:crosses val="autoZero"/>
        <c:auto val="1"/>
        <c:lblAlgn val="ctr"/>
        <c:lblOffset val="100"/>
        <c:noMultiLvlLbl val="0"/>
      </c:catAx>
      <c:valAx>
        <c:axId val="114595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077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F9A2-0457-43F0-8D49-D0C4560AD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9421-DC4F-44DE-AC3A-5EFC3CA5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28D5-07BA-45A0-84D0-B94196BD2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F050-C9A1-48CC-AD1F-047B2BCF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3E8E-CD2C-4A82-B771-98EE7DB8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6871-18E2-48B2-A1C8-2AEE4F65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69FD-1860-4E6A-8A8E-67BB5F75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1FB5-80BD-4095-81B7-039A73F0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BB2D-0753-4195-BAE8-A1AA1455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7A67-AE1E-4EA0-9345-C5ECA515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853B-0EFC-41CD-8983-AEFCA7F8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0058-AA69-43A3-BEEF-69AF2320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227C8-CBCF-4DD7-B7CA-B19FD23FF4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