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29669"/>
        <c:axId val="75929534"/>
      </c:barChart>
      <c:catAx>
        <c:axId val="94029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29534"/>
        <c:crosses val="autoZero"/>
        <c:auto val="1"/>
        <c:lblAlgn val="ctr"/>
        <c:lblOffset val="100"/>
        <c:noMultiLvlLbl val="0"/>
      </c:catAx>
      <c:valAx>
        <c:axId val="75929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29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83D-CE44-4650-9404-83929F78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0B1-3470-484F-BE67-9174F8F3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04B-BD74-486C-A7EB-54B06975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00D-CF7D-448B-8856-9BEDE0CC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1A4-5793-49CF-A7F0-B1DD9840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977-D45D-4B82-8392-6B2DE5B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E46-8356-4DB3-AB82-AC8EC59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0BB-8044-4FEE-A5D6-A557EE21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E68-4C54-4445-AACB-6537966C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FCF-CF48-49FC-8CB1-50E9E3E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8B5-5831-488D-9333-7443AAF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53E-8FF1-4450-A21C-047270E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44560-58D0-4FB2-BA37-9A6E4F2DB0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