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33184"/>
        <c:axId val="33401642"/>
      </c:barChart>
      <c:catAx>
        <c:axId val="57833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01642"/>
        <c:crosses val="autoZero"/>
        <c:auto val="1"/>
        <c:lblAlgn val="ctr"/>
        <c:lblOffset val="100"/>
        <c:noMultiLvlLbl val="0"/>
      </c:catAx>
      <c:valAx>
        <c:axId val="33401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33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790-084C-4508-9ACF-EB4BCC67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B67-9696-4619-8107-7342073C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7A8-B3A3-492A-A396-D6A73807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D57-D5D7-4981-B151-F8D19562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CB3-967C-4D38-8C40-46385E79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B4A-22BC-44A9-B0CB-AC67F472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31F-D90B-4BCD-BA0E-BDA36419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494-7E69-4D69-9D53-54EF0355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BA2-E8B8-48A8-B8EF-4FED6C71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265-B3E6-431A-88E6-B7A730CC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10F-0606-4DEC-B372-DC6CC00F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2A4-763A-4228-BC3A-2173806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E93AF-AB68-4F30-B14F-57A136E165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