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93171"/>
        <c:axId val="19033521"/>
      </c:barChart>
      <c:catAx>
        <c:axId val="92093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3521"/>
        <c:crosses val="autoZero"/>
        <c:auto val="1"/>
        <c:lblAlgn val="ctr"/>
        <c:lblOffset val="100"/>
        <c:noMultiLvlLbl val="0"/>
      </c:catAx>
      <c:valAx>
        <c:axId val="19033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93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2DB-12BC-46FD-9F04-1AA87E7C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EAE-0CD1-4961-B131-49A6A48A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594-3843-4B88-AFE8-169CA8DE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C09-FD37-4247-B121-72377918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F1F-D20F-41CC-8A0D-E4DF078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023-1E48-4AD3-BF0B-6BB9200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4C0-A542-44A0-8954-C8FA8469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71B-9030-45AB-ADAB-3178155D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D20-4DBA-4FC7-A5C2-47241DA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BF4-0E6A-4EA1-BD91-3400D89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333-8A2D-4C13-A16E-41571F27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BA0-DDF9-4EBF-AC3F-6C6D22E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326FB-5663-4781-8CF0-79336890F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