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776940"/>
        <c:axId val="52730604"/>
      </c:barChart>
      <c:catAx>
        <c:axId val="747769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730604"/>
        <c:crosses val="autoZero"/>
        <c:auto val="1"/>
        <c:lblAlgn val="ctr"/>
        <c:lblOffset val="100"/>
        <c:noMultiLvlLbl val="0"/>
      </c:catAx>
      <c:valAx>
        <c:axId val="527306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7769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9A8D-DEA7-4ACC-B5FC-F197D15E8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9CA1-DE2D-4559-9813-32B62016E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526A-5148-4498-B70B-7BF9966E0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54A2-4FAC-443E-B486-77599A505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8C35-2E7C-44C7-8420-A4B69B7AD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DDE5-C9C8-43D4-BD5F-560AD0D43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8B8C-2E5C-4F43-B401-916064A6C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045D-D462-47E2-A4C1-5FEED2D41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30A7-E40E-47AA-8864-B1789464E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AFCE-BF66-4621-9CB1-3B38AB3AA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950C-D8C0-47CE-BB6F-0CB2D6613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AA54-2D4E-420F-91BA-7443FAEC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636CE0-D2E3-43E8-B4A4-85D6D26E0F6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