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04293"/>
        <c:axId val="15480797"/>
      </c:barChart>
      <c:catAx>
        <c:axId val="38204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80797"/>
        <c:crosses val="autoZero"/>
        <c:auto val="1"/>
        <c:lblAlgn val="ctr"/>
        <c:lblOffset val="100"/>
        <c:noMultiLvlLbl val="0"/>
      </c:catAx>
      <c:valAx>
        <c:axId val="15480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04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5B9-AF4F-40FD-8001-60C50DED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E5D-1D75-496E-91F0-35A9452C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A86-335A-4654-8F3B-954ACC36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E3A-67CA-4943-A58D-3EFE4652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74E-E172-40DB-9FF2-125F1AE0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4B8-F168-42C5-B3CF-25821C8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20C-E8AC-4E1D-8A0A-E86E67F5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E65-32B2-4EB3-A284-754AF41B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FD2-997F-4095-A919-97964A20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0AD-661D-4C7E-B863-A267EA2A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580-FFE3-4477-932D-13B17496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FDF-1D86-4DE1-8B60-C4151BDD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D663C-6FF2-426A-A114-986D8378E9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