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197174"/>
        <c:axId val="61354857"/>
      </c:barChart>
      <c:catAx>
        <c:axId val="84197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54857"/>
        <c:crosses val="autoZero"/>
        <c:auto val="1"/>
        <c:lblAlgn val="ctr"/>
        <c:lblOffset val="100"/>
        <c:noMultiLvlLbl val="0"/>
      </c:catAx>
      <c:valAx>
        <c:axId val="61354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197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5946-C537-4BE8-A863-5543A24F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1AA4-8F93-44B0-9E9A-171F4AE3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1E6B-CF69-4A51-BFB6-9F354283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C97-56D9-4818-9796-20A9111F5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A825-2F84-455C-B4C8-EC18F340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D03-2D8E-4BCA-A036-174E0ACA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B6B-E003-441F-9FF5-41ACCDE6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58F8-56E7-4516-B9E5-6B98FD71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041-3219-4862-AF3C-3A490482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EE6B-531A-4BEB-925D-5234D566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8135-DAF9-4717-A59C-8D19AB6E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3046-4BF0-47B7-A2D0-D5207AE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4194C-E629-4413-9C52-D6E8284DA4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