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55347"/>
        <c:axId val="17471049"/>
      </c:barChart>
      <c:catAx>
        <c:axId val="91255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71049"/>
        <c:crosses val="autoZero"/>
        <c:auto val="1"/>
        <c:lblAlgn val="ctr"/>
        <c:lblOffset val="100"/>
        <c:noMultiLvlLbl val="0"/>
      </c:catAx>
      <c:valAx>
        <c:axId val="17471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55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7FA-06CB-4DFE-9A33-B86D32ED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70E-E2ED-4D76-AD7F-8E1C2947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C65-B2B3-4FE3-B8E8-31F4D0F2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808-61B4-476F-8B0D-2816953E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380-9BA7-4955-9D52-69F5B239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340-8339-4185-8F7D-A166F458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117-6CCD-4EED-9637-2430E813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1369-5BFB-488C-A832-D90F8F5C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C70-BF7A-4149-93DA-F99B7ED3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433-2E4A-4ACC-8408-A6A46BF4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C12-356C-4250-83E0-CE9B932F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1B9-18A6-494E-ABBD-89DB926F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9BFE0-C2A5-453E-A1C5-AECF572E40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