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02988"/>
        <c:axId val="54606570"/>
      </c:barChart>
      <c:catAx>
        <c:axId val="818029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06570"/>
        <c:crosses val="autoZero"/>
        <c:auto val="1"/>
        <c:lblAlgn val="ctr"/>
        <c:lblOffset val="100"/>
        <c:noMultiLvlLbl val="0"/>
      </c:catAx>
      <c:valAx>
        <c:axId val="54606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029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15D-F15D-43B4-8DF1-62AC7425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CA6-97D6-4CAB-9E1D-076B4618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0EE5-4D3A-49DA-BB19-9734C9D0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42D-86DC-4CEF-8ADD-393CEC35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AEA1-4F88-4AE8-8F9E-1C3E04EC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C5A4-DD99-465C-8A6A-144F65D6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E4F-F671-4790-B7CD-6DFBB7D0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424-21AA-4319-8D21-DB222826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6D5-7C3D-4555-8830-1785B708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0F5-7E21-4031-AAD6-2BE9A871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755-BC28-44A0-8D57-573276D6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84F-7862-4BD1-8E99-83307576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B80D1-5F1A-42E8-BC7E-DC3AC97768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