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71462"/>
        <c:axId val="60606766"/>
      </c:barChart>
      <c:catAx>
        <c:axId val="10371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06766"/>
        <c:crosses val="autoZero"/>
        <c:auto val="1"/>
        <c:lblAlgn val="ctr"/>
        <c:lblOffset val="100"/>
        <c:noMultiLvlLbl val="0"/>
      </c:catAx>
      <c:valAx>
        <c:axId val="60606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71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D04-FFF2-402B-A4FD-8287A768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6B4-645F-4EE0-8845-80E89D40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46E-F956-4484-9994-0DE349DB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5D6-5B8C-4766-B1CE-E557A9AE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E13-8D12-45ED-A516-3458EAB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997-B4E6-445A-92C4-0B9296B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8F3-F25B-464D-BC90-3A9FD33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A5F-E2C7-4103-9518-19FF8569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686-F8EF-4833-A96E-9A137D99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8AB-8264-42E2-BB64-408D266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E88-5E62-4265-83E8-7CED7984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9EF-3001-473F-9002-7EF5064D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6450C-DB06-4D83-9B10-3787F3E54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