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22096"/>
        <c:axId val="29428230"/>
      </c:barChart>
      <c:catAx>
        <c:axId val="89522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8230"/>
        <c:crosses val="autoZero"/>
        <c:auto val="1"/>
        <c:lblAlgn val="ctr"/>
        <c:lblOffset val="100"/>
        <c:noMultiLvlLbl val="0"/>
      </c:catAx>
      <c:valAx>
        <c:axId val="29428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2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3CE-481D-453D-A85D-415F23F4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2D3-AE0C-4539-8BDE-5C00062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373-897D-405C-9598-9C4E8C72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BE1-65DF-4E18-AD93-6297C2B7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752-D2B8-4EDB-A575-DB89051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FC3-B155-4646-8668-15013ED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2CB-2C0A-4272-942C-9C925A2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75B-F65B-4C66-B8C8-112C00F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B54-BABC-45E0-BFB5-998AB78C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B3A-2173-4325-80BB-A0391A6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C70-1F1A-41F2-9A42-333E395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2A4-57F0-4529-B6BA-A1F28962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77E43-EE30-4287-8583-21C7330FD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