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420294"/>
        <c:axId val="7209481"/>
      </c:barChart>
      <c:catAx>
        <c:axId val="924202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09481"/>
        <c:crosses val="autoZero"/>
        <c:auto val="1"/>
        <c:lblAlgn val="ctr"/>
        <c:lblOffset val="100"/>
        <c:noMultiLvlLbl val="0"/>
      </c:catAx>
      <c:valAx>
        <c:axId val="72094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4202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5E53-AF38-4C77-99B3-11584E1F9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CBE1-6C2F-4886-88C1-8D5CD6D9C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965F-613C-4025-9C0A-38A203C87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2A6E-6B18-4E9A-8EBA-246E82AB5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3160-D52F-4D69-AE80-D73EDE17F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C98B-6A6C-43BD-B05A-538B426BD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0A49-946D-40AB-98B3-57E59382E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DE14-BAD9-48E9-BF1D-E64C02807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A72E-B46D-4BDA-9672-B7D777D39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DBA7-A1C2-4F91-98DE-972051762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D0CA-447E-4C11-B206-F167AFD04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59EE-66AD-4281-BAD8-BBE1B871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50ECDB-ED93-4D43-8A9B-29B23760290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