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441306"/>
        <c:axId val="17852777"/>
      </c:barChart>
      <c:catAx>
        <c:axId val="654413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852777"/>
        <c:crosses val="autoZero"/>
        <c:auto val="1"/>
        <c:lblAlgn val="ctr"/>
        <c:lblOffset val="100"/>
        <c:noMultiLvlLbl val="0"/>
      </c:catAx>
      <c:valAx>
        <c:axId val="178527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4413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746A-562A-45B4-8491-E09A8DFF2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1896-0ACC-4705-8E84-B01B29AA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7744-28C0-49EE-B56F-D1EBB7BB4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5F11-1A5E-4044-827B-2AC3EBC1F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2889-9792-4D22-94AE-B740974E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7587-88E0-426E-AA8E-E4D0214B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5F8E-0C27-4DF8-8838-0134154F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C14E-78EF-48A5-B1A2-59B01BD1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8E0D-2DBF-4ACC-8EFD-470841FF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E6FC-E980-4295-BF82-1FE48806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06A9-C1BD-42B0-A25B-DFA83AF0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5F28-51F6-45A6-B51F-A2E4D5E7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9339BB-6B4F-40B8-86D2-FEB987758B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