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455105"/>
        <c:axId val="46877605"/>
      </c:barChart>
      <c:catAx>
        <c:axId val="464551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77605"/>
        <c:crosses val="autoZero"/>
        <c:auto val="1"/>
        <c:lblAlgn val="ctr"/>
        <c:lblOffset val="100"/>
        <c:noMultiLvlLbl val="0"/>
      </c:catAx>
      <c:valAx>
        <c:axId val="468776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551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508F-14B6-4B15-A993-8D3B203C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DC52-06CF-45BE-85E0-7CD47C2D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C8C9-9B83-4DE8-BA80-EB2A5871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15C4-7A61-4D42-B616-CB5A2F2D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D92B-B759-47D7-89B3-A7CC40EC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4E99-7ED3-4A83-AD1C-C8ED4F68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8985-563E-4141-B133-08896868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B4A8-C301-4D94-AEC8-503C4B39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0910-95C1-44B4-A5D7-0CBAC3DF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BED2-C5DD-455B-AA3D-C3E2E7D0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6FE1-3D63-41FA-9EB4-F71AA6DB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C8FD-2959-47E7-AC02-E4F5D185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59610-DC70-43EA-96D6-BAAD0251AA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