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36222"/>
        <c:axId val="90327175"/>
      </c:barChart>
      <c:catAx>
        <c:axId val="86736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7175"/>
        <c:crosses val="autoZero"/>
        <c:auto val="1"/>
        <c:lblAlgn val="ctr"/>
        <c:lblOffset val="100"/>
        <c:noMultiLvlLbl val="0"/>
      </c:catAx>
      <c:valAx>
        <c:axId val="90327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36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374-2654-4051-A4FF-4BD4D49D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B4B-FD3A-41C1-B06A-7FD56BD2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1BD-4B85-4E62-BCD2-521B4440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BEA-EBB7-457B-81F5-348C04D7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5EF-DB3D-489E-B490-EC7C7E86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84F-BDD6-4ED3-8D96-F6BECEE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D69-5138-411D-A618-F3CAFB49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C14-4900-40F9-B981-CF88C0A5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C26-070A-4DFD-B1A0-94FC54E3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B84-B76C-4EEB-884A-5A4BA2F2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2E8-B8F5-44F2-9FA9-ED37C55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2FC-6CB6-4913-B92C-788F519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B7C6C-1616-4E69-96F3-C7DEE837CB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