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2271"/>
        <c:axId val="70962327"/>
      </c:barChart>
      <c:catAx>
        <c:axId val="58432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2327"/>
        <c:crosses val="autoZero"/>
        <c:auto val="1"/>
        <c:lblAlgn val="ctr"/>
        <c:lblOffset val="100"/>
        <c:noMultiLvlLbl val="0"/>
      </c:catAx>
      <c:valAx>
        <c:axId val="70962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2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295-72B3-4EF5-A622-2B37D564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3AA-7EF4-4869-AE46-B3413922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D34-329B-4CF6-8B29-77E3D271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B8D-57E4-4E79-A5DA-14758343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DD5-EC30-47ED-B45F-BE242ABB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D07-E138-46B2-AA81-C961FAAC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A36-7656-4915-B445-41C2AB0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2D0-3D1A-47C1-81FD-1D137D7A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14F-F4A6-4451-8906-BAD4F02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E42-E672-4D54-9415-F235846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82D-75D7-4F85-B415-DA63C2A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4DA-732A-4D64-AF72-B418B44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76A2-D81A-466D-AA3C-5877003D6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