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89734"/>
        <c:axId val="77919292"/>
      </c:barChart>
      <c:catAx>
        <c:axId val="32289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19292"/>
        <c:crosses val="autoZero"/>
        <c:auto val="1"/>
        <c:lblAlgn val="ctr"/>
        <c:lblOffset val="100"/>
        <c:noMultiLvlLbl val="0"/>
      </c:catAx>
      <c:valAx>
        <c:axId val="77919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89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463-D204-454C-B886-DB17E506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5A9-A57C-4788-A847-02439B3E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EDE-11CA-44CB-9CA6-11D92C30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F45-DC1E-4791-B578-DEF88BAE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25B-00EB-4957-A096-82A8A6A6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732-296A-4CB6-A096-2A4E0BD7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926-26E4-4214-A4F7-30654501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1E6-A72E-46B5-90FD-662C992C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7A3-1D0F-4DC3-8E5B-3E8B3CA7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64E-81F6-4246-9B16-25D6DEA4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362-B8F9-4CEF-A984-69EB7795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99D-ED4D-4EB6-BFCF-9D05AED8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0CBF3-6A97-4A08-8A48-E8BF321A13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