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49413"/>
        <c:axId val="78041188"/>
      </c:barChart>
      <c:catAx>
        <c:axId val="32349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41188"/>
        <c:crosses val="autoZero"/>
        <c:auto val="1"/>
        <c:lblAlgn val="ctr"/>
        <c:lblOffset val="100"/>
        <c:noMultiLvlLbl val="0"/>
      </c:catAx>
      <c:valAx>
        <c:axId val="78041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49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983-317E-4002-A95A-39ACFBB6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29E-F214-4146-976D-AC0F41FB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3B0-F090-4EC6-AEC1-3544D109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E41-34E7-4CC8-9C1E-2328D0CC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30C-D24A-4EE5-93C6-08AB9E58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B19-A779-4440-9AB1-69C6B627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ECB-9107-42BB-A709-3BA9BD84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71D-3DAD-4BEC-ABC7-0693B984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ACB-1A2A-4E07-83F7-BF641E4D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DE7-1BEB-43D7-9196-F93B0015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80E-D07A-46DE-8422-9AA88CF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971-AFA4-4E5E-B1DA-A1760C3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44271-F015-4063-ABFB-B972B45FEA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