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46136"/>
        <c:axId val="40914474"/>
      </c:barChart>
      <c:catAx>
        <c:axId val="68546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14474"/>
        <c:crosses val="autoZero"/>
        <c:auto val="1"/>
        <c:lblAlgn val="ctr"/>
        <c:lblOffset val="100"/>
        <c:noMultiLvlLbl val="0"/>
      </c:catAx>
      <c:valAx>
        <c:axId val="40914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46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DB3-9339-4A3B-A0F5-2C6A206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663-9D5A-4C69-917B-A55B37F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EDC-7C1F-4227-84C3-3736340D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EF8-D31D-483C-AE70-F508D2E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DE-02FD-44E0-90E8-348701C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C8D-74D6-4256-AF09-159B9F2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D48-3E1F-4143-AFA5-736E315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EE3-79E8-4A66-A27C-DE357620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3A9-CAAB-4FF3-A18E-9C14770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B60-F865-4397-8DE7-93E56216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812-7796-4AEE-9690-81449AD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FD1-62B0-4552-BE19-3A90C68B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6D464-E4ED-4083-8D9F-F5295B874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