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2284"/>
        <c:axId val="8775661"/>
      </c:barChart>
      <c:catAx>
        <c:axId val="873522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5661"/>
        <c:crosses val="autoZero"/>
        <c:auto val="1"/>
        <c:lblAlgn val="ctr"/>
        <c:lblOffset val="100"/>
        <c:noMultiLvlLbl val="0"/>
      </c:catAx>
      <c:valAx>
        <c:axId val="87756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22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25FA-2F80-46DB-AA18-5C90E20B2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B0F9-11EE-4043-9608-201DC566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516-DC75-41CD-BC1E-269C0709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ADD2-2B51-4B08-AF84-2D62F5BA6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CAF7-E844-4B13-AF3B-F8E84326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0873-7682-4471-959F-59EC0352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5FAB-0162-49DD-85B8-B0447D28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9A9E-7EF7-4A92-B060-8D8598A0B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6249-28B2-4B0D-8D16-04E13D18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77D-E91B-496D-814E-5262C31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5A5-D2F9-47C4-8DC3-C7108F698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07DF-773A-4CAE-A5A2-A644A1511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CF4117-6A5B-4C26-9659-B5827B8995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