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21683"/>
        <c:axId val="85210510"/>
      </c:barChart>
      <c:catAx>
        <c:axId val="23021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10510"/>
        <c:crosses val="autoZero"/>
        <c:auto val="1"/>
        <c:lblAlgn val="ctr"/>
        <c:lblOffset val="100"/>
        <c:noMultiLvlLbl val="0"/>
      </c:catAx>
      <c:valAx>
        <c:axId val="85210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21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6AD-0640-464D-9AB0-C3936B02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0D8-F1CA-4CA1-B91D-2454971A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C57-C0A3-486F-98EC-B1033914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C179-547B-4555-9A2D-B18D9731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D0A-264F-40A4-9791-88E43CF0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43A-9458-405A-AC29-F46B2AFF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127-A483-4219-A3F5-D92A634A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28B-797D-4BA1-9BD1-0F4BF1B1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298-94D9-4B7E-BA94-2DDBB1F0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AED-0F48-4303-8338-2342DEF8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36F-324D-4675-A1A1-F23A0540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D49-46B3-48E2-8BC1-FD729CFD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9509F-04F8-43C5-9F58-A73D58A9AC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