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814418"/>
        <c:axId val="11542435"/>
      </c:barChart>
      <c:catAx>
        <c:axId val="698144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542435"/>
        <c:crosses val="autoZero"/>
        <c:auto val="1"/>
        <c:lblAlgn val="ctr"/>
        <c:lblOffset val="100"/>
        <c:noMultiLvlLbl val="0"/>
      </c:catAx>
      <c:valAx>
        <c:axId val="115424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144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F615-16AE-4A1D-85E8-1587111E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BDCE-F45B-4F5F-93CF-5C246517C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361-B1F6-4F10-B36B-355EBC7E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EAFE-EE1B-4B12-8EA4-5F7E663D0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9BD0-59A8-4FC6-AAB8-16B4D0A7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4C8-A815-41C7-AC86-5CB083F0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CE38-14D6-4244-8F10-FD052122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CE54-D1B4-4886-ADE7-CB00DF12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8FCD-531A-4DE3-A93F-4FA21FF3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D697-6D17-4317-920F-16272824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05C3-987E-4449-BD7D-6EF7AF33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2313-2B4C-4479-81F5-77F69C05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67562-1F76-4DF5-856F-313DCBD75C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