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8204"/>
        <c:axId val="68641478"/>
      </c:barChart>
      <c:catAx>
        <c:axId val="17708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41478"/>
        <c:crosses val="autoZero"/>
        <c:auto val="1"/>
        <c:lblAlgn val="ctr"/>
        <c:lblOffset val="100"/>
        <c:noMultiLvlLbl val="0"/>
      </c:catAx>
      <c:valAx>
        <c:axId val="68641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8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30A-5873-4E59-8385-E955A842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489-D9B7-4FBA-8FC5-58C7815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413-D7ED-44CB-850E-12FFDF0C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7AC-290A-44CD-AA47-9691D814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667-486F-4174-B3DD-D768D2D3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E7A-57E1-49B2-8CE7-9016E29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1B7-D0C3-40E7-810E-4EC941C7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4A1-E7F7-44EF-BFC5-2665B497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ED0-F6A6-467B-8E04-FC16269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BC3-6334-4B9F-BEE8-5C7B9C0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5D7-CB7A-4DE1-8C0D-B680628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22B-9B14-4EE1-8B57-4163CE8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A91EC-459A-4BC1-A130-639EF0469C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