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683061"/>
        <c:axId val="47169531"/>
      </c:barChart>
      <c:catAx>
        <c:axId val="176830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169531"/>
        <c:crosses val="autoZero"/>
        <c:auto val="1"/>
        <c:lblAlgn val="ctr"/>
        <c:lblOffset val="100"/>
        <c:noMultiLvlLbl val="0"/>
      </c:catAx>
      <c:valAx>
        <c:axId val="471695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830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BD15-EEB0-4BF8-9D90-9227C0849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21CD-216B-48FE-BA8E-3722BB7D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292F-BF41-44AD-9EAE-717B2AC47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F7FE-753A-4482-98BE-C2AC820AF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60E1-2263-4108-A2C6-97CB857A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CF08-033D-4705-A869-F7367366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FB32-7231-4B8B-9B90-C3ABD8CB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F161-A4D7-41A2-A171-D98FE9D9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552B-DA22-46E1-87AA-71EEF3C9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21D5-A7D4-475B-8757-7A06E447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2823-DD8E-497B-9702-FA63F6B6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839D-199F-41D2-9E8D-3BA9AB2B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A98F0F-5843-4C5C-89CB-2813CADDE3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