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71731"/>
        <c:axId val="38002678"/>
      </c:barChart>
      <c:catAx>
        <c:axId val="17071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02678"/>
        <c:crosses val="autoZero"/>
        <c:auto val="1"/>
        <c:lblAlgn val="ctr"/>
        <c:lblOffset val="100"/>
        <c:noMultiLvlLbl val="0"/>
      </c:catAx>
      <c:valAx>
        <c:axId val="38002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71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9DA-ED9D-438B-888C-B6C5A749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052-33EF-4F83-9B42-C390063A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F6C-911B-48B4-A35D-6D9B5549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D6D-F498-4743-9ABF-BB1CDC58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A90-4346-4797-AD86-CB1A248F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6C0-379B-497F-A480-BCF28BA0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D33-940B-4C07-9C7C-10CDC952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C86-DCA2-4D0B-B3AC-E717A300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D6A-294C-4763-B2F2-27570F90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330-FFD6-4AB8-B284-7FD12DEB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E09-1D5C-4481-A7F2-C23D335B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D29-1BA1-494B-9EC4-6EEF3E6C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96A62-7A94-4DA9-8B35-C2C0E9859B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