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17378"/>
        <c:axId val="11896197"/>
      </c:barChart>
      <c:catAx>
        <c:axId val="51217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96197"/>
        <c:crosses val="autoZero"/>
        <c:auto val="1"/>
        <c:lblAlgn val="ctr"/>
        <c:lblOffset val="100"/>
        <c:noMultiLvlLbl val="0"/>
      </c:catAx>
      <c:valAx>
        <c:axId val="11896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17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098-C61A-4DFD-8EAE-70E37192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E92-CADF-4EAC-9D01-799B937E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97A-ED0E-40BA-B994-07451481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40E-8545-4DB0-8ECE-F5A2F1A1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422-53C2-4439-8A3D-375ABDBA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67E-18D5-4D16-9596-7C562E96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674-CD61-456D-BFD4-1A576AAA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7DA-CD86-477F-B505-6200421F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289-86CC-42C9-B867-EB9E227A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082-469B-4585-B3D0-CE65F485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2C9-6A2A-44EC-86E0-2BDFEEC2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D80-D392-43CA-9454-44B22498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C2ADA-FD15-46D8-86B1-72D7E1A95A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