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79614"/>
        <c:axId val="93216725"/>
      </c:barChart>
      <c:catAx>
        <c:axId val="5607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6725"/>
        <c:crosses val="autoZero"/>
        <c:auto val="1"/>
        <c:lblAlgn val="ctr"/>
        <c:lblOffset val="100"/>
        <c:noMultiLvlLbl val="0"/>
      </c:catAx>
      <c:valAx>
        <c:axId val="93216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7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FEC-3B1C-4B81-81C7-AA7E42C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7A0-8CBF-470C-86AC-ABC943C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A2D-02F6-4ECB-906F-650C0967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3C6-2154-40E1-9B4F-2C21FB0E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A8-CA21-4B7A-AFAE-1F2F7B5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783-16C3-4C6C-B183-699E80F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80B-C661-4491-8E4C-03EA1E1E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51F-746F-47A7-AE2D-B0098DB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240-6E23-46FA-AF21-A6D281D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0A8-A2C2-4A81-8C2F-10C9A6D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A76-EED1-43D9-ACD8-781BC799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25E-5950-4583-9023-4014CD5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A350B-945D-4F50-B295-A4344A429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