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80381"/>
        <c:axId val="5401706"/>
      </c:barChart>
      <c:catAx>
        <c:axId val="78080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1706"/>
        <c:crosses val="autoZero"/>
        <c:auto val="1"/>
        <c:lblAlgn val="ctr"/>
        <c:lblOffset val="100"/>
        <c:noMultiLvlLbl val="0"/>
      </c:catAx>
      <c:valAx>
        <c:axId val="5401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80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DDBE-7529-46E4-A1B9-1964B4E1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DB8-59B2-456D-9ABA-4D1FE37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4C4-A424-435B-AA56-E6D35819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8E76-6721-4DF1-B936-B529680A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CF6-5B9A-44F2-BDEA-C2D1E2A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7DB-B8C8-4BFD-9EAE-64C803AE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EF4-B0EB-4952-A48F-AF4E47AE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B0A-71C0-4DFA-8461-84001849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59E-227B-4BAF-9A31-67D6C734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FF5-0807-4F6D-9657-F2913E8C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90A-6D4D-488D-BBC5-982C1FBD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D8B0-0BA5-4B77-8855-5D3E789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53284-486C-473E-BAB7-AAED8AC58F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