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063543"/>
        <c:axId val="86839668"/>
      </c:barChart>
      <c:catAx>
        <c:axId val="120635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839668"/>
        <c:crosses val="autoZero"/>
        <c:auto val="1"/>
        <c:lblAlgn val="ctr"/>
        <c:lblOffset val="100"/>
        <c:noMultiLvlLbl val="0"/>
      </c:catAx>
      <c:valAx>
        <c:axId val="868396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0635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9B04-4458-4782-94E9-44834F5A4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0D5C-13B5-4C19-AECB-FC2F69C8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3DC4-62BC-4072-ADF5-A60CA281A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2F29-A9E9-45FA-B821-2EAAFE77A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5C8B-D702-430E-9B9C-9A482D5B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69D7-8CA5-452F-B6F3-973DE76D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BA74-22BB-4239-A579-AD07CBDA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C60F-62F9-4B39-ADCD-B7C07305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70E6-6F00-4BFE-AC84-86705CBC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01A6-94F4-498F-8E7B-B52E4195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450A-B34C-4A97-AA2F-08884662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1ACA-7E69-4E05-9A46-06DE3B07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E916E-75B0-4D75-95EC-D25F0EDB4D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