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32289"/>
        <c:axId val="62895263"/>
      </c:barChart>
      <c:catAx>
        <c:axId val="37432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95263"/>
        <c:crosses val="autoZero"/>
        <c:auto val="1"/>
        <c:lblAlgn val="ctr"/>
        <c:lblOffset val="100"/>
        <c:noMultiLvlLbl val="0"/>
      </c:catAx>
      <c:valAx>
        <c:axId val="62895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32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FE4-E493-4928-B3EA-FEA26DCD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60F-D885-4CA7-B98A-E881BF7A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BF6-4415-4DF9-9D60-66389EE9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EA8-718A-407A-9BD7-A88A6506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0A3-5AB9-49FA-843D-5BFE7D41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8DA-E89A-4B0E-B7C2-21DFE7AD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186-0135-4593-A227-B28320D3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66E-CB43-4DA1-B791-ABBE5547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AD7-4F13-4C58-B6DD-DB2F33D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871-23EC-4B7D-932C-52603B9E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FB4-C760-4210-BD0A-D245D39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2F6-1804-442F-9773-6138D76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A9F68-42DA-43FE-B1E9-52A28F363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