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425057"/>
        <c:axId val="11629407"/>
      </c:barChart>
      <c:catAx>
        <c:axId val="514250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629407"/>
        <c:crosses val="autoZero"/>
        <c:auto val="1"/>
        <c:lblAlgn val="ctr"/>
        <c:lblOffset val="100"/>
        <c:noMultiLvlLbl val="0"/>
      </c:catAx>
      <c:valAx>
        <c:axId val="116294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4250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18A1-615B-4649-87ED-1052DF64B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0560-33C1-48DE-9812-02DDC305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F086-9E60-45A8-BB8D-D93A5206F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DAF0-5456-495F-8B84-E868F866A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2B91-11B0-480E-974B-7C613BF8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C24B-F457-48FD-B14A-4E38572D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8BD0-D472-4E69-86BA-18CC7CB4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DD40-B7EA-4047-91E8-8D2E2D23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6EB5-C2AA-4E9F-9E48-EF2576B7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2D85-E9CA-4B9C-BEBF-06DE84E0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1975-089C-435C-A839-022180A0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FB53-7F81-4E8C-A324-A231E5A1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C874A6-C1B3-441F-B52F-C8AAD9518C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