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62044"/>
        <c:axId val="19116004"/>
      </c:barChart>
      <c:catAx>
        <c:axId val="76562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16004"/>
        <c:crosses val="autoZero"/>
        <c:auto val="1"/>
        <c:lblAlgn val="ctr"/>
        <c:lblOffset val="100"/>
        <c:noMultiLvlLbl val="0"/>
      </c:catAx>
      <c:valAx>
        <c:axId val="19116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2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DB0-EDF4-4A8A-BD5E-6D8483D4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446-7636-440D-9836-EB0643C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D17-E774-4127-ADD1-95856547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13B-DDEA-4DDA-80B5-C2F2F89C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359-F1EC-414A-82D1-FC2C8B5A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94D-1C25-49F1-B75E-8686E61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D91-B2FD-4EF8-A1A8-53BB9CF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0E6-586C-47B5-93C8-F2DFD66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84B-E11E-4921-8B98-74F45D7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FA9-014E-4FF0-A998-845288E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143-6C77-411F-A375-1EB3AF4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EAD-2607-4603-AEA5-94D4C38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BE80C-36F5-470C-BBE7-6D8C75559C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