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09048"/>
        <c:axId val="6081899"/>
      </c:barChart>
      <c:catAx>
        <c:axId val="45609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1899"/>
        <c:crosses val="autoZero"/>
        <c:auto val="1"/>
        <c:lblAlgn val="ctr"/>
        <c:lblOffset val="100"/>
        <c:noMultiLvlLbl val="0"/>
      </c:catAx>
      <c:valAx>
        <c:axId val="6081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09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90E-6C01-4B2B-9288-78BCAE19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B8E-D8C7-4154-AB53-D35F7AF3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237-7AEE-43FB-B995-F4803B7D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933-452B-432A-A7F7-9E3EF937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902-2487-42CF-A3DB-0ACD4C42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C8F-CE3A-4E25-A704-4C9127F3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689-C2E7-4B7F-AF16-EFD5EFC9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C24-82F4-45C5-B222-8CD323FA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C8A-C984-472F-B609-A88DD46B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78C-7902-4A21-B364-3AE423C0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696-25B9-461E-8EB7-082EF5A1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C26-4B32-420F-9F43-9E815219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A54DB-6FE2-4D3B-910F-B7AFDC115F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