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7191"/>
        <c:axId val="30768246"/>
      </c:barChart>
      <c:catAx>
        <c:axId val="80657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68246"/>
        <c:crosses val="autoZero"/>
        <c:auto val="1"/>
        <c:lblAlgn val="ctr"/>
        <c:lblOffset val="100"/>
        <c:noMultiLvlLbl val="0"/>
      </c:catAx>
      <c:valAx>
        <c:axId val="3076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7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5C5-D0AE-4EB5-8E4D-489C6910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168-ED3B-4EF0-B4C5-CD927BF0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F76-5501-4C61-B9DC-FBBD97B7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4D8-5194-490E-8B91-0BA2DA2E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4BA-679D-402A-9276-565AE03F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630-B1F8-4F35-8966-ACCE3F03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A2A-E69E-48CA-BCAB-F7E25110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767-96BF-4941-A3B9-EC9B94FC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9A1-E342-4B10-AA25-936057B2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3D1-62FE-4DEA-9FAA-3414B44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8F7-F4D2-45E8-8432-7865C18E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9DB-FFCE-4B84-9919-441B41FF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D5A14-329B-47D6-9794-A1B1B9AB0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