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47020"/>
        <c:axId val="17806775"/>
      </c:barChart>
      <c:catAx>
        <c:axId val="50747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06775"/>
        <c:crosses val="autoZero"/>
        <c:auto val="1"/>
        <c:lblAlgn val="ctr"/>
        <c:lblOffset val="100"/>
        <c:noMultiLvlLbl val="0"/>
      </c:catAx>
      <c:valAx>
        <c:axId val="17806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7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82A-E869-47BA-AFE6-532184B3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5CA-6C90-403E-BDF9-ECADA8D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856-11CB-4570-805E-623A8D6E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C5B-C12B-4FF2-8804-8C0EB1BC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855-2A03-4695-9C23-D49029A3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24E-6ACC-45BF-B293-B371C04C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BF9-E079-441F-8060-DA5EE02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74E-759B-44FE-A48D-48717D83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983-B8FD-4442-9D6A-3E7ED993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5D0-2873-4DAA-8750-D7223F5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345-8501-45B5-828C-7C43784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664-2D32-414F-A89F-371716ED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A94BC-0593-4E10-8D31-35983E6D4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