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58443"/>
        <c:axId val="21674140"/>
      </c:barChart>
      <c:catAx>
        <c:axId val="56958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74140"/>
        <c:crosses val="autoZero"/>
        <c:auto val="1"/>
        <c:lblAlgn val="ctr"/>
        <c:lblOffset val="100"/>
        <c:noMultiLvlLbl val="0"/>
      </c:catAx>
      <c:valAx>
        <c:axId val="21674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58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845-A188-47D9-9641-88197AF3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2FA-E92E-43E6-8D9C-79B7BCA2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5E5-D66E-4D32-ADE0-46D738A6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174-B25E-4B80-A572-0E10FF21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BD7-63AA-4D3A-A2C3-57061B7D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961-45A1-4A32-8F63-AF5E40E8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3F4-CBC7-413F-AE0E-BC586477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63C-80E7-4D37-9AF0-AB60CA7A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CE5-D637-4D9C-A0D1-3373D4DF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9A1-90CA-4CE2-8FD5-35E354BC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1A3-254C-48DD-965A-DD07D4A5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136-0CAE-4AAB-A43D-AC72468C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CB8EF-AF2C-4A44-A811-302D1EACD2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