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37448"/>
        <c:axId val="91382760"/>
      </c:barChart>
      <c:catAx>
        <c:axId val="15637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82760"/>
        <c:crosses val="autoZero"/>
        <c:auto val="1"/>
        <c:lblAlgn val="ctr"/>
        <c:lblOffset val="100"/>
        <c:noMultiLvlLbl val="0"/>
      </c:catAx>
      <c:valAx>
        <c:axId val="91382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7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31E-BA9F-4EB4-9C29-54FF819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452-DF76-401F-AA4B-178C73D7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8B3-BD2E-4B9F-87C7-B56BB5AF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D3E-E851-44FE-AE10-866B2CEC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E2C-2B4F-44D1-A947-45FE1B9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8BD-D973-413D-8AF8-60724EC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234-A5ED-4ED8-8C5E-B7CB5C27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3B7-04A1-46C7-8BFA-409AC8A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4B9-8D3F-48FE-B129-CCDC969D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674-2CD8-4E49-8D1E-40BFF094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97C-2E00-4166-9A2C-20A44F2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2BE-BA90-4FBA-9CF7-890EED5E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5DFC2-7D4F-4BCF-BE73-05D97CC6F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