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700281"/>
        <c:axId val="35860001"/>
      </c:barChart>
      <c:catAx>
        <c:axId val="777002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60001"/>
        <c:crosses val="autoZero"/>
        <c:auto val="1"/>
        <c:lblAlgn val="ctr"/>
        <c:lblOffset val="100"/>
        <c:noMultiLvlLbl val="0"/>
      </c:catAx>
      <c:valAx>
        <c:axId val="358600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002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56DD-1EEE-4C64-BCE7-9B0C67426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4714-A57B-4814-BF73-A3017743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8F62-38D7-45ED-9AF8-95F93F846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B439-A615-4822-81C9-C68F0E27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95A1-1FCF-47E6-A57D-080BDEE5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8576-5066-4CC5-871E-668093BF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D226-5E82-49BC-B0D8-34AA612E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E128-C8FB-4DF5-870F-66BE5083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7A0C-7484-45B5-B0D0-B74BC0A2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BE85-BC38-4A25-864E-822DEF2B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8D8D-20C5-4E9F-97DB-BD45CE68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0740-1DD1-4E39-9330-D7802B12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78C41-CDB6-49CD-B9D6-BADBCF288B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