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818665"/>
        <c:axId val="86475139"/>
      </c:barChart>
      <c:catAx>
        <c:axId val="108186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475139"/>
        <c:crosses val="autoZero"/>
        <c:auto val="1"/>
        <c:lblAlgn val="ctr"/>
        <c:lblOffset val="100"/>
        <c:noMultiLvlLbl val="0"/>
      </c:catAx>
      <c:valAx>
        <c:axId val="864751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8186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434B-3B76-4914-A517-D7C101DF5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BDB4-0601-4817-BC58-2BCB0A51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4DA5-CDB8-4E73-89FC-1CB49E54D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0729-ACCB-439A-8993-27493FBD5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489F-574E-468B-8070-22ACD89E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CCD5-3B2D-43D6-ABEC-BFA443F2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3A9B-AA5E-46FE-A7A2-B7787128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5F11-A080-4E6A-9EA3-E893FB95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1343-9732-4792-B5C5-43DDB5F3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7E9C-E15C-4D2F-85C0-C6E2B6F8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BA7F-AC30-44A5-B7D8-E23C7AE5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C901-099F-4CCC-A170-0C01C8B5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6E0E00-C153-4908-A8AB-AEA1A8DFDE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