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229609"/>
        <c:axId val="60617708"/>
      </c:barChart>
      <c:catAx>
        <c:axId val="112296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17708"/>
        <c:crosses val="autoZero"/>
        <c:auto val="1"/>
        <c:lblAlgn val="ctr"/>
        <c:lblOffset val="100"/>
        <c:noMultiLvlLbl val="0"/>
      </c:catAx>
      <c:valAx>
        <c:axId val="606177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296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4D96-4C1D-4D44-BB74-B5805696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45CA-DB2B-4B07-9280-ADABAED3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3039-C029-4BDC-A1BF-B0C8BD63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942A-F30F-4D5E-81F4-C4DFB409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5BC1-CFE3-4B39-9C9A-2613B48F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D7FD-2A42-4F47-A0D9-05B10082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517F-3A12-4F69-AF16-2BAE40DA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C309-16E4-4091-B880-CB03E4CE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4E94-2989-4387-8EAB-7D2E3F4C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9971-4774-4DBC-87EB-2E184A1A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7481-A6B1-4A9A-9520-08010EED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CCDD-FDD0-4B23-904A-18611C3F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89F3A-2596-440C-AF4D-8D06B38972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