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988022"/>
        <c:axId val="12454483"/>
      </c:barChart>
      <c:catAx>
        <c:axId val="349880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54483"/>
        <c:crosses val="autoZero"/>
        <c:auto val="1"/>
        <c:lblAlgn val="ctr"/>
        <c:lblOffset val="100"/>
        <c:noMultiLvlLbl val="0"/>
      </c:catAx>
      <c:valAx>
        <c:axId val="124544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880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5B76-2786-4843-92CC-78B19780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50AA-9843-4974-8A47-418268BD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D004-0B55-4FAA-B1E8-69B234B8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042A-D98A-4C7D-8626-B44C3100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F51F-06F6-484B-8DB1-0B8C8B79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A804-551C-4684-A54F-65C73EA8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EEAF-E5BF-4898-9818-6CEA46A7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9952-BCCD-43E6-9DEA-B1199F8A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CD95-0567-4518-BFEF-68B2E1E6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EA2F-0FAC-4030-8621-2AE1D7E7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9A91-1079-4106-B969-4F59B9E9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0D98-302E-4794-887A-E55DE850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23B61-C5A0-4765-A7E5-8B3E5C048E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