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97132"/>
        <c:axId val="88690299"/>
      </c:barChart>
      <c:catAx>
        <c:axId val="22397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90299"/>
        <c:crosses val="autoZero"/>
        <c:auto val="1"/>
        <c:lblAlgn val="ctr"/>
        <c:lblOffset val="100"/>
        <c:noMultiLvlLbl val="0"/>
      </c:catAx>
      <c:valAx>
        <c:axId val="88690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97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B4F-3635-405B-A294-2C7893FB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2B0-2626-461F-82C7-250186B6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2C5-4900-452E-8010-D6CBFA44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BE4-0C5B-47B7-A505-70C24139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1F2-7C4C-4D11-A80E-3368D871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363-1953-4D90-8944-29AF666B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757-E72E-4F99-893C-747D3029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B95-F3CD-4688-8CD8-3DB90B82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AF6-ADAA-4746-9690-AA860361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42F-2D62-4C8D-9782-DF6FCE06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B5F-F363-4B71-9F48-7B6B18C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45F-3248-4B2F-BA46-725F5E36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2A282-C6C7-4E4F-A1FE-75D7E6CD4C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