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57600"/>
        <c:axId val="10026402"/>
      </c:barChart>
      <c:catAx>
        <c:axId val="33157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26402"/>
        <c:crosses val="autoZero"/>
        <c:auto val="1"/>
        <c:lblAlgn val="ctr"/>
        <c:lblOffset val="100"/>
        <c:noMultiLvlLbl val="0"/>
      </c:catAx>
      <c:valAx>
        <c:axId val="10026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57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864-4784-4522-A496-741FC352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501-CDE8-4C15-978C-7911493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ED0-A527-4792-AD52-506D7DA6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989-7AE1-40E3-ABD4-996897AF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46A-0737-4670-B097-51ECB3DE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00A-B6C0-4FF3-8FD4-ACC0ED3F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F95-28DF-42B2-A30D-62A0BCD7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091-4D5B-4CDE-ACEB-E021F767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379-C7E5-4CEE-943F-4ED1AA48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3AF-3EF7-43CA-A743-53FD1C7B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33A-32FA-4F15-A844-1DBDCB1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59D-3BD1-439C-9C8A-C5F84DF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EC8E0-809D-4723-86C1-71D3113C99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