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65098"/>
        <c:axId val="71306595"/>
      </c:barChart>
      <c:catAx>
        <c:axId val="77965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06595"/>
        <c:crosses val="autoZero"/>
        <c:auto val="1"/>
        <c:lblAlgn val="ctr"/>
        <c:lblOffset val="100"/>
        <c:noMultiLvlLbl val="0"/>
      </c:catAx>
      <c:valAx>
        <c:axId val="71306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65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9A3-8A29-4D0A-9602-59374450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49D-E333-4EF2-81C6-45790F07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E58-3621-423E-8F2C-3A05A2C4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220-56A6-4724-86DB-C6EEFDE0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849-ACB8-494E-865F-59BA0C82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A3F-0BA9-46E6-9668-6F0F7A05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9587-D0B4-4B1A-BC18-84F4FBFB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CA1-14F8-462A-9153-289FB0ED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1F9-88DB-4EAD-914E-7F705C0B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C1D-9F73-4288-BB55-CB7F3DB6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522-46C5-440A-A98E-96AFD2BB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1C8-5F64-46D4-960D-A579825B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AC72E-24A8-40E0-9DD8-F917CE77D1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