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445602"/>
        <c:axId val="90943876"/>
      </c:barChart>
      <c:catAx>
        <c:axId val="374456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943876"/>
        <c:crosses val="autoZero"/>
        <c:auto val="1"/>
        <c:lblAlgn val="ctr"/>
        <c:lblOffset val="100"/>
        <c:noMultiLvlLbl val="0"/>
      </c:catAx>
      <c:valAx>
        <c:axId val="909438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4456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1FFF-8FE7-4A10-83BF-D0B5B9C09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3E24-22AB-4289-AD9A-F7BED26F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6E5F-C156-4590-BA76-6673DCAA1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ED85-6B43-4A4B-8674-1A2ADFBAD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3F57-2F69-48F0-8E61-A33BA99D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C133-81E3-4985-A9BB-C0E7BE6E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B507-7C1A-40EF-89D2-FD9D4A0F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461D-5423-4851-A5CE-4F4E453E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EC32-1DBF-4B5E-ACA5-679A1D1D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E4D5-F947-4858-8425-8E52CFC7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B187-93EA-4B1A-8D72-29B97247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8600-4A27-496C-A0F2-BA2CED43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BAA53-E896-42DA-A49A-15F288B447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