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97495"/>
        <c:axId val="58568151"/>
      </c:barChart>
      <c:catAx>
        <c:axId val="28097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8151"/>
        <c:crosses val="autoZero"/>
        <c:auto val="1"/>
        <c:lblAlgn val="ctr"/>
        <c:lblOffset val="100"/>
        <c:noMultiLvlLbl val="0"/>
      </c:catAx>
      <c:valAx>
        <c:axId val="58568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97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518-1AAA-4E90-82FA-B0E893E2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C81-EAAC-4A42-ADCC-9F70224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813-0517-4D94-85A0-FD97DB53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43D-FEBF-4846-8173-2177CBF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BEA-2505-433C-A85D-1F083CF5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43A-3264-466D-B676-A24B1459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A51-50FC-4AE4-A36B-771D192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C7B-4BE3-44FD-AC19-C9D0494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0FD-DF87-4E8A-9B60-75AB7423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566-313A-4E1C-8EE3-A09E2D3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086-066C-4C68-92BF-5AB5649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46A-EA6C-4F3A-B8F3-34D3208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5C50D-023A-49A2-8828-355FE0672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