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051500"/>
        <c:axId val="28691903"/>
      </c:barChart>
      <c:catAx>
        <c:axId val="230515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91903"/>
        <c:crosses val="autoZero"/>
        <c:auto val="1"/>
        <c:lblAlgn val="ctr"/>
        <c:lblOffset val="100"/>
        <c:noMultiLvlLbl val="0"/>
      </c:catAx>
      <c:valAx>
        <c:axId val="286919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515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D5E5-B58A-4520-82DD-793F24FC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ACE4-6682-45CC-9112-77C6B32B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AB00-C65B-4ECD-A556-5B390039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0DC2-079C-4F27-9235-C890EBD1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3180-304C-4E64-9AE5-FBB14145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6B06-69AD-444A-9972-D6387833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A43E-489E-40B9-94D5-6B874C8F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2797-3D27-4BA6-AA9D-334CB346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1AF1-096D-4634-A393-499271EA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41B0-C1D5-4FAF-A871-67A460E0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793A-3A9A-4723-BD9B-E9CA5D77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BD14-8601-455B-9A1B-9A9E78F3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227D3-0214-418C-A873-FC113AEAAE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