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49502"/>
        <c:axId val="98944594"/>
      </c:barChart>
      <c:catAx>
        <c:axId val="64849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44594"/>
        <c:crosses val="autoZero"/>
        <c:auto val="1"/>
        <c:lblAlgn val="ctr"/>
        <c:lblOffset val="100"/>
        <c:noMultiLvlLbl val="0"/>
      </c:catAx>
      <c:valAx>
        <c:axId val="98944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49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1AE-0953-4607-9084-13A252A5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64D-DB9F-4BDE-B812-8E412B64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F79-A21E-413B-A033-110E8814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10B-51D8-4673-8DAA-3C8C64FA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AD8-3EB1-4593-8D39-874609E1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E5F0-68C8-4086-BC2D-7CCD9BEA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AF0-6D31-4460-ADD8-F182C48B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9A0-328E-4864-A65D-119E9847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86B-FE8C-453F-A165-23C57254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6A72-4C29-46F2-B54F-65975532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DAC-BCA1-4EBE-954F-1A4E4423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D23-76E3-4B1B-95BB-943D2B3F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EEA57-2AC9-4F99-9A8E-AF7B98C509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