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67667"/>
        <c:axId val="18403713"/>
      </c:barChart>
      <c:catAx>
        <c:axId val="14067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3713"/>
        <c:crosses val="autoZero"/>
        <c:auto val="1"/>
        <c:lblAlgn val="ctr"/>
        <c:lblOffset val="100"/>
        <c:noMultiLvlLbl val="0"/>
      </c:catAx>
      <c:valAx>
        <c:axId val="18403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67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1D0-BEF4-4729-9899-109274C8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7F-3D13-4BBE-9762-EC9E65A3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718-2F24-4ED4-82BE-E77BA53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380-DBC0-4993-BF86-70F867F3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924-1AD8-4E4A-81FD-C8EF2BE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F02-CBC2-4CA9-A1B1-A6D1D43E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73D-187A-40E3-B12B-0929DC9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31B-1AFD-46DA-A75C-CDF48828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AF1-1869-4733-B103-23EEF1FF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572-874B-4916-A2C4-DA9EF36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365-A4ED-4167-8165-5EE8DC9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ACE-8B04-4476-8A88-F50AE59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7E5C5-7881-4C58-B5CA-24792F1DF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